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C87-0E89-4076-BB68-F2D813A2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040-3391-457A-9C88-77FA29E1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7D1-3B4B-43D6-B792-1489C823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E3D-4AF4-4CE4-A7A7-DA729AB4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B078-A278-4557-97DD-C8FB221E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63BA-AB50-45FF-8293-E18214F9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4F7F-021A-453F-951D-5A52D3D9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23EF-80F0-4A02-8D0D-75FA0E10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C39A-CF1E-4603-846B-3B8E4770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F575-3192-4278-89D0-73756817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B27E-E984-4B26-91B4-585A4E49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3C2-4CC6-4FC9-B3B1-DCB355B5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BB0A-74C6-4F81-9B0D-50FA3502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5ED2-ECA8-4F7C-9E14-AD116CCE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1BCA-F1D3-4D7A-9CFA-49A65DDB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36A6-258D-4AE8-B644-BF8CA882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1DA6-EBAB-417E-905D-C6BB56F0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55D-31E3-4F7D-8514-2EFD497D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BE5-E2AE-4C67-8DE7-CB96BB0D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9249-BC03-47D4-B38C-4EDF42C2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534-7487-450D-B5A7-B71B19BB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A97C-1B99-472F-9758-1CEB00EF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D85-A304-4166-ADD7-B79D395E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5FE-4185-4035-8586-85D03A64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8EFF-626B-46C7-9971-27FFA9D70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54D7-E36E-4461-AA0F-3DD0CDAF9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371600"/>
            <a:ext cx="89917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 23 do Código de Min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23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s estudos referidos no inciso V do art. 22 concluirão pel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 - exeqüibilidade técnico-econômica da lavra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 - inexistência de jazida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I - inexeqüibilidade técnico-econômica da lavra em face da presença de fatores conjunturais adversos, tais com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inexistência de tecnologia adequada ao aproveitamento econômico da substância mineral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inexistência de mercado interno ou externo para a substância mineral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35:34Z</dcterms:modified>
  <cp:revision>61</cp:revision>
  <dc:subject/>
  <dc:title>Apresentação do PowerPoint</dc:title>
</cp:coreProperties>
</file>